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B0E-EDE2-41BD-B803-D0DD50ED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8EC-2812-42C7-8B4F-B3662BC4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320-5F00-4D5F-9B89-22CC8A7B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C3E-07B8-4120-B612-884EB8D7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9F5-50B0-46DA-B672-F00BA136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A26-8F95-4C0D-B72F-789B106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130-D98E-46A5-B441-DA18A060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500-CC9A-4D7F-9874-6840A01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E9A-4EA2-4A91-A1BB-E6B17A09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9A2-257B-41E7-8A95-B12C3C3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E5E-0AC3-4124-9FED-BF6858B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816-2067-434B-870C-7D85C2B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4B2D-16A4-47C3-8699-FB05B9D81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CC"/>
          <p:cNvPicPr/>
          <p:nvPr/>
        </p:nvPicPr>
        <p:blipFill>
          <a:blip r:embed="rId1"/>
          <a:stretch/>
        </p:blipFill>
        <p:spPr>
          <a:xfrm>
            <a:off x="-324000" y="403200"/>
            <a:ext cx="5843880" cy="54198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5591160" y="1701720"/>
            <a:ext cx="3012840" cy="2395440"/>
            <a:chOff x="5591160" y="1701720"/>
            <a:chExt cx="3012840" cy="2395440"/>
          </a:xfrm>
        </p:grpSpPr>
        <p:grpSp>
          <p:nvGrpSpPr>
            <p:cNvPr id="43" name="Group 17"/>
            <p:cNvGrpSpPr/>
            <p:nvPr/>
          </p:nvGrpSpPr>
          <p:grpSpPr>
            <a:xfrm>
              <a:off x="5591160" y="1701720"/>
              <a:ext cx="3012840" cy="2395440"/>
              <a:chOff x="5591160" y="1701720"/>
              <a:chExt cx="3012840" cy="239544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5591160" y="1701720"/>
                <a:ext cx="1527120" cy="23954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3"/>
              <p:cNvSpPr/>
              <p:nvPr/>
            </p:nvSpPr>
            <p:spPr>
              <a:xfrm>
                <a:off x="7076880" y="1701720"/>
                <a:ext cx="1527120" cy="2395440"/>
              </a:xfrm>
              <a:prstGeom prst="rect">
                <a:avLst/>
              </a:prstGeom>
              <a:solidFill>
                <a:srgbClr val="cccc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Pie 5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4979" y="0"/>
                    </a:moveTo>
                    <a:cubicBezTo>
                      <a:pt x="6768" y="-8"/>
                      <a:pt x="8425" y="941"/>
                      <a:pt x="9324" y="2488"/>
                    </a:cubicBezTo>
                    <a:cubicBezTo>
                      <a:pt x="10223" y="4035"/>
                      <a:pt x="10227" y="5944"/>
                      <a:pt x="9335" y="7495"/>
                    </a:cubicBezTo>
                    <a:cubicBezTo>
                      <a:pt x="8443" y="9046"/>
                      <a:pt x="6790" y="10002"/>
                      <a:pt x="5000" y="10002"/>
                    </a:cubicBezTo>
                    <a:cubicBezTo>
                      <a:pt x="5000" y="8335"/>
                      <a:pt x="5001" y="6668"/>
                      <a:pt x="5001" y="5001"/>
                    </a:cubicBezTo>
                    <a:cubicBezTo>
                      <a:pt x="4994" y="3334"/>
                      <a:pt x="4986" y="1667"/>
                      <a:pt x="4979" y="0"/>
                    </a:cubicBezTo>
                    <a:close/>
                  </a:path>
                </a:pathLst>
              </a:custGeom>
              <a:solidFill>
                <a:srgbClr val="ef37f1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Pie 6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5021" y="10000"/>
                    </a:moveTo>
                    <a:cubicBezTo>
                      <a:pt x="3232" y="10008"/>
                      <a:pt x="1574" y="9060"/>
                      <a:pt x="675" y="7513"/>
                    </a:cubicBezTo>
                    <a:cubicBezTo>
                      <a:pt x="-224" y="5966"/>
                      <a:pt x="-229" y="4056"/>
                      <a:pt x="664" y="2505"/>
                    </a:cubicBezTo>
                    <a:cubicBezTo>
                      <a:pt x="1556" y="954"/>
                      <a:pt x="3209" y="-2"/>
                      <a:pt x="4999" y="-2"/>
                    </a:cubicBezTo>
                    <a:cubicBezTo>
                      <a:pt x="5000" y="1666"/>
                      <a:pt x="5000" y="3333"/>
                      <a:pt x="5001" y="5001"/>
                    </a:cubicBezTo>
                    <a:cubicBezTo>
                      <a:pt x="5008" y="6667"/>
                      <a:pt x="5014" y="8334"/>
                      <a:pt x="5021" y="10000"/>
                    </a:cubicBezTo>
                    <a:close/>
                  </a:path>
                </a:pathLst>
              </a:cu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7"/>
            <p:cNvSpPr/>
            <p:nvPr/>
          </p:nvSpPr>
          <p:spPr>
            <a:xfrm>
              <a:off x="583596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634968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720504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63560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9" descr="CodeCogsEqn"/>
          <p:cNvPicPr/>
          <p:nvPr/>
        </p:nvPicPr>
        <p:blipFill>
          <a:blip r:embed="rId2"/>
          <a:stretch/>
        </p:blipFill>
        <p:spPr>
          <a:xfrm>
            <a:off x="3203640" y="5243400"/>
            <a:ext cx="550872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519880" y="98100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binding site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51560" y="4508640"/>
            <a:ext cx="22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4"/>
          <p:cNvCxnSpPr>
            <a:stCxn id="54" idx="0"/>
          </p:cNvCxnSpPr>
          <p:nvPr/>
        </p:nvCxnSpPr>
        <p:spPr>
          <a:xfrm flipV="1">
            <a:off x="6696000" y="3428280"/>
            <a:ext cx="406800" cy="108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2:00:40Z</dcterms:created>
  <dc:creator> </dc:creator>
  <dc:description/>
  <cp:keywords/>
  <dc:language>en-US</dc:language>
  <cp:lastModifiedBy>dell</cp:lastModifiedBy>
  <dcterms:modified xsi:type="dcterms:W3CDTF">2017-02-01T04:33:55Z</dcterms:modified>
  <cp:revision>1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